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A51-6471-4AAA-A777-21A03478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FE9-9E48-40D8-B670-6890363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95DD6-ADD0-4616-9012-26731761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99CF9-8C00-46A4-A39D-B0B222F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91D30-0FD0-4095-B9CF-5078306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88AEB-D783-4B8E-BF22-98122BD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7D307-0FB3-4C70-9673-0A6DB13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98C1B-4E63-4232-8F91-59A996B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F6E5F-93EE-47DF-B9FF-A73250F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8B2FB-2FE7-4216-ABD2-B007B7D4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69CD7-858F-4B20-8366-94393036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5A7F9-68F5-4F33-A5E0-B9C0D3A0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D56-F0A8-4E44-85B9-5AD42503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67C56-36B1-41FC-ABCF-99E166E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DB063-A95E-4A65-A5C5-9B8800F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846F0-C87D-4106-82BB-81243AE5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7378D-355C-4A01-913F-6AE7D7F1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695F4-11BD-461B-81B9-DEEEEF91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54963-F7FE-4B6F-8102-02B9E89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6CF7-BCBC-49E6-8A80-703D86C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B1F21-6675-4B56-B2D7-E39E8946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0BE59-B98F-4777-8D6D-175A6F05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36E81-4F74-481F-A833-5141722F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BA5-3A19-46F7-A2FA-263A5A3D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E1533-4446-4E48-B7BA-CDE74D1F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50A2A-FB8D-4C45-9DCC-1A6FDAA8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C97F-FCCE-4FAC-89FE-B40BFFCF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7AD56-B25F-48EF-8CDD-3368BB6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08462-4671-4F39-88CA-CA86DA1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BC157-DFAC-4721-B54B-0B65F941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D9D7C-BD9A-4812-B3F7-A33B711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70892-98C1-4AA8-BC09-45A4B94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C6497-A914-41FC-A245-13B4E49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771AA-044E-43E5-B666-C95C738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392D-898C-4F8E-A9FE-0868335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C2D2-851C-4ECA-A539-F44A4884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E9EAD-56A1-4000-8A8A-70EEC70B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29941-2B4D-48BA-AEF5-44F49955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737C-2E0A-4EB6-9663-CF0D6AC2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0E03B-0973-4A8A-B3AC-76189114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E7826-79BE-4CE3-B0C1-572B3B3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9379B-5F90-4673-AFC3-FA45C681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AAA69-BD44-4324-BD66-4185539A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A413B-7BD4-446F-BB0C-D8490E9B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022CA-8504-4138-B5F9-E4B6F1A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9094-E755-4957-8353-173018A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5742C-8CEC-486E-A2F6-C0DC075D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9A229-1C9A-4ECA-A85D-9B2DECD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5C447-8C2F-471B-819E-0FD10C5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FE295-571E-477A-8541-5C0556F9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F1A8F-F85A-4D0B-A206-D626F3B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8BBE9-2296-44EC-9CB4-1420C68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FEC0F-38C0-4531-9367-177BD963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F0C0C-073F-41AC-94C3-29356DDC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B97CC-23F7-4F11-ADCC-EB7D5940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F7384-6D1A-42A7-8073-2A3C6104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4ABD-4AE6-4422-8CD1-66EA168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6450F-A351-44F5-BB77-CCAEA609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5CCCD-F638-454E-A22F-047F9D5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A8DEF-B7FC-4815-838A-3EF7F93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DD913-A714-41EC-8B87-CD0AC02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79917-CD8B-4A76-96D7-A840AAC8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CC119-61F6-424E-8143-50B75EDF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9DB8B-9AFF-4B3F-8AA1-85022775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FE9C2-E0D2-426E-A2F8-78A66211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3DEA1-9A91-4C81-9CFD-3DB27A9B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C6509-F583-45A0-9526-CDA72BFB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02E6-4DB1-4524-8360-C81A2C35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D5421-FE2C-4740-BFC5-B4B3095C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9D3D5-3930-4161-ABA6-7B07122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F5652-A725-444D-A32E-7B3B40A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4AADC-29DC-4874-938C-2E4DE45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ED09E-D690-4BCF-BC2E-CDC83E6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EAF69-C8FE-4755-9DE3-947F516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D3B7D-B4BC-4BAC-8F8C-E65F78F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F6332-6B40-467C-8529-CBEB8AF2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2AA7E-3EFF-40AC-A7B8-529EE70F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2B790-3715-4F58-8106-78E14327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5150-34CA-44BF-BC12-2E90AFDB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1B2BC-2E53-41C2-A9A7-357A9FD9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87F43-8B4B-448D-B5C2-2BD606A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7E76A-140A-42F0-989B-E1A3290F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6F2B8-9C63-47AC-AB0B-1F0CB912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51A48-8215-4000-803C-E34DD49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E3DB2-593E-4111-9425-1A98E96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CBEFF-A320-451A-98CC-564E169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FEFC8-5E22-471E-910C-B8BA0706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84FD1-E793-42CC-BC0A-5D1D4FA8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068D1-82B2-41B4-9F8A-14385DE0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7E9-2301-46EC-A87F-026F5664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3807C-4C69-425B-945E-556AD66C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9EF7C-046F-445B-ADD4-DEB60D7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B7191-C9EF-46B0-AC13-0732058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8364F-E74C-4BFE-8382-1C1B9D07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D9818-A84D-4F71-A0BD-3F181367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421FA-17B2-4839-A808-409DC5D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4C1D1-26DB-43C0-80F6-AA5878B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ED665-1371-4BFD-B2F1-7BB1B94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7B691-DC09-4960-B94D-FCDF9D2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31EE3-D31B-405A-8ACD-5D5C3FE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6AEA-6F63-4711-860D-7EAC234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B7285-6F58-4B40-8AC7-768F74CB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0A7DF-2304-42E4-B4B7-973292C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982C5-1D3C-41AB-B206-8579ADF7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A225A-82C1-42D2-8D75-43A559E3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5AFC8-252B-439B-961D-93465A5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0600D-5AD0-465B-BCBB-46E8D25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14F5F-9133-4A38-BFF8-14D71F47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74F1C-4F51-4827-8E72-024F3AE4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DC014-C69C-4F48-9354-65E53A77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8DA8A-04A2-4D4C-98BB-15EEADA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2CD-8C84-44F5-90AF-38CCB5D4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2465-29FF-4520-BF69-C209499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AA35A-2AD5-48A4-9CFA-0A97CE0F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16648-ABE8-4ECA-A019-FCD34CB9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C8CCE-CB76-44C4-AD56-D0159799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CCDDC-A26F-4606-BD2F-F8C90785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EE6EC-2743-40EB-9247-1029DC31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ADE90-9C3D-49EA-96D1-2A9EE227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6075E-A075-44DA-A275-8DCDC26D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CF0BA-C79B-47E4-8DC8-1F754D1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5E390-A614-4111-AC41-91E12F01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EA17D-0B18-47C0-9004-0A8A534D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6AA-C984-4FFD-979C-80639239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28A70-B338-4ECB-B400-A04FA9A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AD163-CC45-46C2-B667-5B299C3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860F20-61C2-44EB-846D-415CA59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DC7F1-7EEB-4CBB-9469-1A044E5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CCB38-FE02-4270-803D-08D55702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827F8-0786-4FA1-A24B-5DD97295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4373A-FAFE-455E-ABB8-DFC4ABA5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4E2BD-5473-4C33-8F64-BA46D2A8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9F161-C244-4720-90AD-0FF75501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2C889-674B-4C5F-AD56-0CB2DFD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264A-58DB-4455-BD2F-E856EB5A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BC3B0-230E-4C12-A157-43EEA1F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914E8-FF01-4037-AE05-AE0EDA52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162F7-44CD-4DC4-B42D-821BE72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92900-1370-4721-AFBA-03F36FA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A17358-7D9D-4ED8-ABAD-EB26CA3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EAA63-6C28-4C8C-93D0-672FE1C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59C88-B8AF-4F8C-B40B-5248EBD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B565B-58CB-46A1-8D00-9A164FC4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1784DA-4C73-40E4-9A6C-451E7667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421A8-E5E2-4A99-B799-C59EB8FC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9AC5-1412-43B5-A0E8-560FA879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B8E69-1E45-4CCA-9174-F1AE4F8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0903C-8D55-4700-964F-C792B9EE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BEBA3-AF7D-49B0-B39D-8E27A98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2DBC1-5433-48DD-B313-E80B4AC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B5514-F838-4630-97F8-16D2A82F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74EF0-FF7A-4875-85A5-CC5149A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9CEC8-47B8-4553-9296-8245FB6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DC427-ACF1-4FEE-92E8-832C0F78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76D33-E782-42F7-B31F-732EB2AD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01149-682E-411B-8B71-8C8F8433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7E17-1713-48FC-B6BB-6CAC2F66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43FF5-85AB-4EC9-B01D-856F45ED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66FFC-E2C5-4A51-A015-0FBAD3ED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F466F8-B334-4EDE-912E-A1DCAB0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4156F-355C-4FA9-957A-BABD414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27C5B-322C-43DE-BF8D-FB8DD7C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796DF-000C-45A8-A7ED-9FBBC7D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C7F8E2-6E43-4CF2-9529-4E88AD1E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A55A0-755F-4DE5-B139-0AED2D4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572B7-F89F-4273-929F-95ED715A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ED1F9-C981-4E40-9847-22F500DB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BDBB-43A8-4E1D-AAC7-522AF9E3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00DEF-4020-4A19-9916-26A416AF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2C821-473D-431E-B4D7-91644CAF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F5683-9F51-4F2A-BBE3-EF1D1D58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D6520D-D994-45E5-BC70-397DEC0F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35B75F-F587-4368-A71A-1FA7B97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BBE2A6-55BE-4039-B7B5-2E798E53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837C44-BABD-4031-8E63-2F759808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1A951-F6BF-4E76-A7AA-0C17B4E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2D03B-03E9-46F7-B888-640DE0F5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E0E1C-DD8E-474C-AAFC-549150D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69F5-CC3E-461C-84D2-2E07143E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FFEBF-BA62-429A-B2E7-1D4AE8B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44D96A-6F2D-44CD-BF21-A4D11DB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DF0700-ECA9-459E-8566-A2FB4D2B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307F9-2201-45A9-AB71-0200423C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A7ACCE-91BB-4DB1-AFD7-A1DF0B9A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07CAC2-F74D-4282-86AF-BF19270B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41993E-2D6C-4A4B-861B-80E9F944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0FD233-4350-435C-91BC-6DD8AAB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152082-CFA2-42DE-8055-5708BA9E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E8C00-11B7-4F88-8276-6451193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18C1-E3B9-4A34-8C19-8432480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4077E3-85BE-48E2-960D-84C3F09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D50E83-8A83-4982-ADF4-BFAD8BB7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C2890-EC42-4766-BF9E-DBE76AA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9B45E-DA7B-43BA-933E-7D59782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D4118-3B1E-44D0-AF44-6E30C4C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8A5D01-5D8E-44F0-9A14-0009E7B4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311E4-C3CE-4E8F-B2BA-B3928C06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7B27F4-E06F-42BF-BF74-98839D78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5BACD6-6189-4D44-95B3-770A4ECB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FB459C-C511-433B-BD1C-70D9424E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5DF3-8DD0-4F31-BBA8-E13EE93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7D7A0-F3EF-42D5-9B52-556BB5EB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580815-063E-4940-ADA5-25D81B74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F115E2-02C5-4C28-885C-3B84078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17BB1A-357E-4D61-9482-AF705CF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5EE958-A6CE-4039-BA34-64BF272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F6E354-1AD2-4159-990C-927F530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FD149-9105-4A4A-8B76-F164743A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EE6BE2-5671-49C7-AC24-4F99CB48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360D8-0FB4-42DD-A219-0B9A0FE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EFA8AC-993D-4AF9-A6A8-341EC123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4B80-AD8D-4665-B21E-0C1BC83A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071902-8CA4-44E5-B0AB-9FB379F3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3EF15D-73E7-4CCE-AD29-BFB19FC0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1FF11E-7E42-4130-9FD5-4E60E8E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4F54B-175A-4A11-93ED-B9D7F1EA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65286C-F498-4B7A-BB89-22FDF53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536FEE-BCB1-4E8A-AAA5-1A61501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BA2A73-5E64-460C-A320-30AEE75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7C989F-6EF4-4D04-AA0C-D932C71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FA7F1F-9C4C-415E-A105-47091F3A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DA2663-9A89-4107-A768-9B95F071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4D5-AEDC-4CAD-93A1-C805C82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625F-81E8-4A2C-BFFD-56BD233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04E682-F7DD-4740-9A4D-B7265829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A4F97-463E-4E38-8AC0-236E68DF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6A5AD6-3CC6-4F3B-A83F-1809117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AC32FF-5055-4AD0-8C2F-46DA4A70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32A710-2338-46A1-B1F8-94D6249B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6977F4-1342-49CE-82BF-4469A77E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BFE80F-37CE-466F-8512-6824D79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523AB2-41A4-4F85-B2F8-541102C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2095F2-66CB-4B4B-B952-2AE5B35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0032F8-BC8D-453D-8A72-3013B6A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E7CC-584F-4AEB-A8A3-9D22A85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612A3E-73E2-4C6C-941E-DEC2426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B14313-69DD-4F15-A413-8C26FE02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81ABC2-F0CE-4722-A009-6FF19269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D70916-FA2B-49AB-9DF9-0A75EDD2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551E1E-65E4-4C5A-91AA-4E15A452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01C645-2411-487F-9800-99FB124E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A719F7-D54D-4001-ADE5-4D1650D9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B56F1E-19B9-4178-9E8C-9B5503C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9F969D-17AF-4A94-9A8D-BAE20854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483AF4-A3D5-4D71-BD39-A19ECB1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F9CA-8DFE-433C-A0A4-30DE2523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48F846-26C7-4FE1-9AB1-96C4C90E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6E2B68-5723-4EE6-8E33-FC5CF63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F79FA-C13B-4D65-B00B-D406FC6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F422F5-1481-454A-BC9D-999E2359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FEC00C-FF89-4249-B72F-DDC73E92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6CD249-1943-431C-B5B6-3A0E5EF4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F4C7B2-BB3F-40B9-9543-BF5C7E94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6F205B-3378-4BCC-AB8F-9ED8AC43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E75CE1-15F2-4AF2-A9DF-E8A24F3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8495A4-18F0-4F8E-BBDA-AFCC197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F3DD-B5B7-4543-82F2-A772221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19ACD4-9E97-41E3-AFEA-57259BDA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BF9746-BE25-4131-9AFA-3F9B247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F6C705-5613-48C0-BE1F-75CE3D6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31E179-FB2D-4068-BE55-51AEB02F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039F0A-6A85-4B8E-95F5-464061BA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A8B89A-AC17-4CA3-AB78-C6D02341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B2A6A3-DFD4-4B62-BAC2-3D7C139B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B00B42-6A9A-4698-886F-0F203A58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647E0F-1FA3-4BE3-B2ED-C60CDF4E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141D72-2748-4762-9A2A-94BA3CB3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FCAD-D481-4F44-981B-57A8280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012506-B1C6-47CA-BEC4-806A59C7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60124-6B81-4E0D-849D-DCDBFA8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76B8C5-115B-49A5-B022-DFA8DF2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7E1230-A5E1-4627-B29D-E747953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D694CB-85DA-4433-A9E9-DF6465A0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2919D0-B124-49B5-B4CF-2383828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8D0867-DDFB-495D-80E1-A4F2E79A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49C55B-CFFB-4937-A1C8-2B7E9C1C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02C853-3B9A-45B2-B188-C3768594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948F25-27B9-4399-85D1-1409D76E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A663-FF5A-4AEE-A0C4-52F0DC9F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B8DD4E-97A9-4B11-933A-D5B7DAB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CAAAC2-F49E-4BCF-9C6B-6534F92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2C0781-91C0-41EF-9654-DFED0A65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13F173-8F04-412E-B692-111A1850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DDAAD7-EFE4-4E27-B67E-26DAA51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FE29D0-8944-4661-80B2-FC97872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7F5768-D621-4B2B-BDD9-5E3B275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C027DF-28A1-427A-8158-E9BF36B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D1C382-4FEE-4E01-8B63-D3216A34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4D237B-F0DE-4D1D-AAC6-5070A121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7598-1EFE-4D8A-B1C7-236022B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954EA1-B583-4B42-8DF2-D2729817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3DCB9F-FE04-4DFC-9ED7-675C08CB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17B6F0-9290-45B0-A131-8F7742E4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9E3019-2759-47A9-B4ED-4129AC4E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6CDEFB-44A7-46E7-9042-0C0FA4EF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4F4FD9-50CD-441F-A758-8572C81B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2E1EF5-0E55-4009-94CC-FD734295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52EDB6-2841-4F49-B863-83D0824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518104-C8E4-4048-AD58-24DA57C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54AD1C-E43F-4C34-8E3E-0A74525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FD86-4773-4C5B-8A38-A743A979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6D45D8-5395-4694-938C-3EC1DD4E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AD9B01-7592-48AB-B34F-38814145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EFD694-75AC-4CFA-9BDD-D569DFC3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C474CE-D8B1-4B04-B8A3-B76FE9CF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DFBA91-78BA-4408-A139-6C8A2EE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371787-B36E-4124-A2D3-75AFE6EC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9DEE25-34CE-4242-8748-72A81C7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CA9DDC-DF8B-4718-9450-C800B42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F59DFA-14B9-4D12-8DFF-DF21DC43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BE5632-5177-4374-93BA-57AE2313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9213-5619-415C-860D-56F8C16F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78F8C0-A25A-43C8-AE52-96A5F06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4D84A9-4FAB-4B5D-9712-E01359FC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5C0A36-E086-4CC5-92C6-5439B31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693798-EE4D-4E58-BECF-7AC631CF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CE1A4D-DD1E-4863-88BF-9C83F53A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EBA1BC-DEAA-4092-BE6E-D0242DD0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72FCF9-887C-4046-92D4-1DD35BF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DADC0C-BB7C-4654-8D5F-BD3DC1D4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736BEE-CBEC-4648-AFBC-AB1261B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A0E901-F7B9-4A02-A459-E65620E1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99B7-A5D1-41D6-BC97-B7630C20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23CF22-94A5-40E3-90B8-1714E07C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60F00A-1B3D-4F02-BE53-372855D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798E49-7F00-4F8C-B197-71D0D34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E6463A-2CAC-4DE2-991A-D14032F1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91CADD-8155-4DE0-966A-8B5B50A8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446107-B031-458E-8507-4143556A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67F906-C6BF-4CA9-8336-E02F7E20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2BFD6E-9426-4F16-A424-A7E68D29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A07199-E424-46A9-8E23-828C0FAE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3F774B-874C-4134-9A24-E356A91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D2C-546D-4DA9-969C-CFDE8F2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BA01-D71F-42BA-BD0B-808B4ED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715B3F-35EB-4036-9955-FE5B334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045300-3D5F-47E9-B895-1CBD156D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34ACE6-C3C4-45EA-B63A-FA0B5F19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08A520-E099-4883-AEBB-19092C6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C5D2D6-C9F7-478E-B685-F2E2B45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7FCC4D-6815-49B8-A131-EAE034F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5EDA80-5BBF-4F73-9D53-932F43B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FFB57F-581E-4D35-809F-5DACD935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8DE1F6-E5D3-4A6E-98BF-4A48D038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92416D-58D7-48F1-804D-4B16C058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1853-1BEB-4A4F-86A5-79E75646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C36724-A7F7-43EC-8674-B39507D5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2C11FD-E665-43FF-BAD3-03F08227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8F433D-2FA4-48FC-ABD2-0AC574D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554932-5980-4664-9D4D-8EC39616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3BDA73-222B-4E34-8F38-B145C2E9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47C30F-1A98-433F-86E6-9BE7B50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2AA321-7A90-4E6E-8601-2C77CAB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CB4843-0768-4547-A91F-7683BF5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1CAD20-2889-4607-B5D8-AA1ADD2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19A01C-AFA6-467B-947E-75E7AE7F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FC57-D7C0-4DA1-A918-FE24B562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98C480-EC27-44BD-9F13-B8D37C88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D39F91-0484-4AA7-ADB8-A908684F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36F194-222C-42DA-9419-49E3B7F3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A1424E-82B7-4AE1-AE46-53C27840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DB8FBA-A0AC-4635-91BF-3530B794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F89EDC-EDEF-48B9-9065-508AA9F5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A672D3-18D0-46B8-8A92-AC877923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58F1AA-1193-457B-9DB3-2AD6350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7605B2-138C-4EAA-99B1-BB495FF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EF427D-5BB5-4CFB-A321-5C30CFE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8CD4-21F9-451F-A885-3A2B4C7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209D72-CADD-4556-806D-E5672F0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BDBC3B-3B7B-4BA8-B438-E1324714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42E76D-8B94-4FDD-86A9-849215A7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066944-3EBD-415D-A6FB-CBF17E32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EE05A0-CD87-4850-ADFE-B4D530A2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4527A2-0222-4405-89E7-C2115C68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24CF83-3185-42E8-8B77-A9ACFC5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448A6B-41D5-430C-A3AE-37F16FF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CF9DDE-1A0D-4FFA-9A14-5E7EEF56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FFAFA8-00AA-4DDF-8B45-BD3BEEE2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6F4E-5C52-4629-8938-BAAD6E0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38BD42-EC30-4044-8971-8ED6AFFF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671DAD-D15A-4A69-9B81-D985F96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327482-D584-45EA-9F36-3FA088B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A8E97E-4F2F-4B51-9165-6C4D1533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3093BF-FC7B-468D-A0BB-40B190FC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D618E1-9E8D-4495-A1F3-F0713940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0E6577-ECE6-423F-9FEB-59F5ABF6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39C13D-66BA-46AD-AE8F-F498D75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328ED7-D291-4790-8794-0A799B2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A8EF3E-1A98-4111-92C0-93D58CC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9756-36CA-419A-B390-400DEAB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D56CAC-3530-49FE-8BDA-C24D3044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6F99D5-8E33-45E2-B788-54224BC7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BACE64-55F4-4AF2-B57B-C2E6F4F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A281EB-1E1C-456D-A7E1-0EF8B0C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A6FA3C-6E71-485D-80E1-27BE787A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2B4F13-81AF-416F-999B-2C91239F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AEB3FF-8AC3-4B80-A3D8-C6DD1792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6182-FC0A-4180-87E4-BF214246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1E3D-003A-47C3-8013-5250F8C7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534B-789B-4049-B2C6-EED1DA15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1C5D-1C1A-408B-A26A-A5A5051E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A10-7471-4E1B-8686-6E2CE834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40363-F3CC-49FF-A0AE-833298D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19B6-9543-4B5D-AB97-9F44319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6ABF-11D5-4751-8E00-FB9DC2F1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A9F8-F634-46AD-BA2A-D491D96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B12B-39CA-49F0-8D86-A4CC9BF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10889-857A-4D8C-8AE2-B18EA8A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1A74-A310-426B-B7B4-11E7BA0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D11F3-8541-4094-A455-3483E3B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69B1-2FE5-4EA2-A9E9-1D994ED5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16806-E760-4C6C-BA2E-2CD4F56B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3EB-C4C6-4570-8809-401B518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3E728-CC73-41FD-A417-F3CE3D84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3F30-F274-424A-B78D-63C1E9BF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53AB8-F4A6-478A-87E2-367AF57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0152-42ED-4C37-BD02-0AE321B5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E4792-27B3-45D2-B20F-47E75F3C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34AB-80D1-4995-BF39-0B2C54E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7216B-75CE-47AB-A3E3-BB5C9E1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612F-ABB9-4D3F-B1C0-98D9A8ED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CBACC-9708-43DC-8908-D1B9DDC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43C1-C2E8-4B9D-AAFC-7FD64D3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20F-7EE5-4E02-9758-09BB232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757E-86B6-4231-AC34-85A7957C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029A-D3DD-40B6-8D9F-115CA01D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DB62-2FE6-4E29-88D4-2F3ECFA5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5CB24-7655-4E65-9C72-DF5D3CB3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026F3-D89D-4B07-8B4D-2C4B76F1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36B3-A328-496D-B7FD-6F15B896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1462-B7C2-4F96-BC88-609FBDD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D45B-6C78-4748-BABE-54B00EB3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267F-94C5-42F8-8F65-8E8E0B71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3CF41-481C-4006-86B7-0EDA1CF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842-AC59-4BD2-A48C-D92F03A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46C91-42C0-44C0-A8AD-A883042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0D41-3C51-49AF-8D80-F807649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6797-0627-4D90-B6B7-FD9BF78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FDEB2-CF58-4C13-A8DD-BF48529D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901F2-2B77-4BD1-AE13-E88D9841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F8605-B815-4948-A767-DF9E9B7C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CD967-FBF6-4A6F-AB04-A25D92A2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4D0CC-6438-4D49-BC72-382A0968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06A2A-05BD-4F0B-BE30-B1D137B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6168A-EE4C-4DB3-8916-F2ABFD8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EE4-300F-4AB4-ABC0-110DFD2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7DDFA-D6EF-44C9-B800-2D28849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1E7B-B531-43B0-9D5A-D6FA601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9459-12E8-48BC-9619-F73224B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50A6-E50F-4EFD-9D71-7E49B58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3CCAD-0353-48A3-9325-8A520E8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6C89A-E216-44A9-AEC0-817E8990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A754F-38F2-4802-8489-A6701BE8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3CDFA-6711-4385-9752-467C5409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C1E0-5565-4E05-B33F-5024A6B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C27B3-2DB8-4D18-A183-E1189EAB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AE94-30AD-48AA-845E-BF04863E8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7711-43FD-4962-ABA6-34D6F02DD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4AC-E7CD-4815-9536-0DE413265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98F4-1DC6-4979-90D9-07678708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F76-1F18-46BB-8885-453F375A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2E87-25C6-46D7-A460-A7CDFA0B7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7662-F90D-418D-8C10-69964945A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A4D0-BBDF-4209-AB37-D3E9A508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A35C-F0E4-4C18-9E5F-872B8FDE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F68-8C51-4AF3-ABFC-1083D2267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1FBD-C93B-4A12-82DA-57707742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37DA-EA99-431A-B3EF-769139A4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977-A8C3-462E-82FF-8E3CCA41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B23-5AFE-4445-8239-69D4E5C1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361-4471-4CB7-AC55-BE2079E2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DD3-B687-42F9-AA19-BD4456E4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9F85-7DD0-434F-98B1-15C73431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79A-AD24-488F-BBD1-43FE37CD3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74A5-2104-4A05-8C17-9CADEAED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8373-5298-4776-A9F7-D1D1AB039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CDA-B1F3-4CAD-9C8F-5CD3977E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41B2-1E54-47F4-87FE-D341240E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E546-3794-445B-9E61-E885C1C7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120-3F36-46B3-A463-7E9F006C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ECAA-EFF2-4072-A996-FA35B1F90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AD7-D6C8-44BC-B2C0-05D483B7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EC04-E0A3-4F99-8377-564E605D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62B3-B615-4E8F-A2D3-4470465A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87E-29E3-4826-B622-F55ABA30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D648-776C-4A49-91A1-7576D33BD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41C9-6258-4D61-B7A4-50754EAB2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09E-3875-434F-8A47-6FF894509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223-2470-4EBF-8604-BB236FC37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7E54-7FED-4157-A0CC-4FF34D376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36C7-484F-46C6-96FD-B93EC473B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72F-8380-408C-AF79-2C509FD34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B930-7FBE-4567-BCE0-EF89C7C61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35D6-2635-4B9C-9F7D-F0156E95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21 &amp; 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ystery Island Project Due Friday      *Geo. Terms Tes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0" y="990720"/>
            <a:ext cx="396252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21&amp; 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group or chain of islands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 body of l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ar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rrounded by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body of water that flows through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2057400" y="1676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chipel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2730600" y="2386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nins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19810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15" descr="http://www.riversportstubes.com/Guadalupe-River-Horseshoe-L.jpg"/>
          <p:cNvPicPr/>
          <p:nvPr/>
        </p:nvPicPr>
        <p:blipFill>
          <a:blip r:embed="rId1"/>
          <a:stretch/>
        </p:blipFill>
        <p:spPr>
          <a:xfrm>
            <a:off x="4038480" y="3468600"/>
            <a:ext cx="5105520" cy="33894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17" descr="http://www.tahiti-tours.com/PicsHotel/tahititours/Images/frenchpolynesia.jpg"/>
          <p:cNvPicPr/>
          <p:nvPr/>
        </p:nvPicPr>
        <p:blipFill>
          <a:blip r:embed="rId2"/>
          <a:stretch/>
        </p:blipFill>
        <p:spPr>
          <a:xfrm>
            <a:off x="4800600" y="914400"/>
            <a:ext cx="3624120" cy="259092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13" descr="http://upload.wikimedia.org/wikipedia/commons/thumb/5/5f/Baja_peninsula_(mexico)_250m.jpg/237px-Baja_peninsula_(mexico)_250m.jpg"/>
          <p:cNvPicPr/>
          <p:nvPr/>
        </p:nvPicPr>
        <p:blipFill>
          <a:blip r:embed="rId3"/>
          <a:stretch/>
        </p:blipFill>
        <p:spPr>
          <a:xfrm>
            <a:off x="838080" y="3505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95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603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68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614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617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1T12:50:26Z</dcterms:modified>
  <cp:revision>34</cp:revision>
  <dc:subject/>
  <dc:title>Slide 1</dc:title>
</cp:coreProperties>
</file>